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4F5-B738-4299-9343-E314807A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131-2B6D-4F66-BB71-AE57731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785-573F-46D6-870E-54DC2EA5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09D-915D-4E72-9C15-95406C26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B5E-C7EC-48D5-950F-CE731A2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29E-0E99-4869-A85A-09FCA090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EC8-2442-49FE-92AA-49F9CC6A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DEB-BC6E-42C8-9B28-F43ECDDF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D24-377C-439C-8948-65B95D8E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E10-27A1-442D-AE80-79D5204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41D-8876-4688-A619-667BAD70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9D8-4C2E-45A9-95EC-644E1DB9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A80-93AB-46B7-AA5E-0FE81DA0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5765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0" r="13333" b="10000"/>
          <a:stretch/>
        </p:blipFill>
        <p:spPr>
          <a:xfrm>
            <a:off x="4724280" y="3798720"/>
            <a:ext cx="4419720" cy="305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223992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4120" y="457200"/>
            <a:ext cx="33526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Catolog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562720" y="1828800"/>
            <a:ext cx="2743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 Rop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Castellar"/>
              </a:rPr>
              <a:t>La Primave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2876400"/>
            <a:ext cx="2805120" cy="398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28954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ia lleva una falda blanca, una pulsera con muchos colores, una blusa azul, y los zapatos ro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953400" y="2819520"/>
            <a:ext cx="2190600" cy="403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4952880"/>
            <a:ext cx="1752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an lleva tenis negros, un camiseta de n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y los pantalones co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Castellar"/>
              </a:rPr>
              <a:t>El Vera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0" t="0" r="13333" b="10000"/>
          <a:stretch/>
        </p:blipFill>
        <p:spPr>
          <a:xfrm>
            <a:off x="4452840" y="3611520"/>
            <a:ext cx="469116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62720" y="3581280"/>
            <a:ext cx="3581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Mateo lleva blue jeans, una camiseta verde, zapatos azules, y gafas de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51055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23039" t="0" r="23039" b="0"/>
          <a:stretch/>
        </p:blipFill>
        <p:spPr>
          <a:xfrm>
            <a:off x="0" y="2514600"/>
            <a:ext cx="15127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572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aco lleva un traje de ba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 negro y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stellar"/>
              </a:rPr>
              <a:t>El Oto</a:t>
            </a:r>
            <a:r>
              <a:rPr b="0" lang="en-US" sz="7200" spc="-1" strike="noStrike">
                <a:solidFill>
                  <a:srgbClr val="ff3300"/>
                </a:solidFill>
                <a:latin typeface="Castellar"/>
                <a:ea typeface="Arial"/>
              </a:rPr>
              <a:t>ñ</a:t>
            </a:r>
            <a:r>
              <a:rPr b="0" lang="en-US" sz="7200" spc="-1" strike="noStrike">
                <a:solidFill>
                  <a:srgbClr val="ff3300"/>
                </a:solidFill>
                <a:latin typeface="Castellar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3309840" cy="220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4572000"/>
            <a:ext cx="3048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os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 lleva un abrigo, una bufanda, y un g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553080" y="2057400"/>
            <a:ext cx="1895760" cy="2419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553080" y="4724280"/>
            <a:ext cx="1905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Javi lleva una chaqueta y pantal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ff"/>
                </a:solidFill>
                <a:latin typeface="Castellar"/>
              </a:rPr>
              <a:t>El Invier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30000" t="0" r="28000" b="0"/>
          <a:stretch/>
        </p:blipFill>
        <p:spPr>
          <a:xfrm>
            <a:off x="846000" y="1371600"/>
            <a:ext cx="1184400" cy="239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62320" y="14479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ugusto lleva un chaleco, una corbata, una camisa, pantalones, un cintu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, y bo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466040" y="4114800"/>
            <a:ext cx="167796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05520" y="5334120"/>
            <a:ext cx="2209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duardo lleva un abrigo, un chaleco, un camiseta, y panta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7:07Z</dcterms:created>
  <dc:creator>levinemat</dc:creator>
  <dc:description/>
  <dc:language>en-US</dc:language>
  <cp:lastModifiedBy>levinemat</cp:lastModifiedBy>
  <dcterms:modified xsi:type="dcterms:W3CDTF">2013-01-03T19:11:58Z</dcterms:modified>
  <cp:revision>9</cp:revision>
  <dc:subject/>
  <dc:title>Slide 1</dc:title>
</cp:coreProperties>
</file>